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02813-DAC9-4AB7-A8EC-17CBD23A8B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84CA3-42A2-4EF9-96E6-66A6BA8F3A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2499B8C5-17C3-4DDE-AF30-EDB80027E3D8}"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27F3DDC-4ADD-41EF-8321-8AB9046A4EE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189A65F-5097-449E-BE1A-4C808C7618B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8B86F00-6D70-49C7-8E31-78C0EAF4B49C}" type="datetime">
              <a:rPr b="0" lang="en-US" sz="1200" spc="-1" strike="noStrike">
                <a:solidFill>
                  <a:srgbClr val="000000"/>
                </a:solidFill>
                <a:latin typeface="Times New Roman"/>
                <a:ea typeface="Arial"/>
              </a:rPr>
              <a:t>07/31/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D282C96-FAC0-4C1B-AEED-661E5EEE5F00}" type="datetime3">
              <a:rPr b="0" lang="en-US" sz="1200" spc="-1" strike="noStrike">
                <a:solidFill>
                  <a:srgbClr val="000000"/>
                </a:solidFill>
                <a:latin typeface="Times New Roman"/>
                <a:ea typeface="Arial"/>
              </a:rPr>
              <a:t>July 31,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DC09278-42D5-4429-96BE-09521589E99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BC704B-1CE8-49BB-A3AC-81B99C6C69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E7C47-979F-4092-91B3-91AAC57AB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546DF-CD7E-42A4-987F-B51004562C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EC2847-A390-4FA8-BE5C-E9830C8F4F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66C0B-0F23-4656-850C-EEEE7E1E2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2538C8-738D-4924-9A8F-06C3A4F72C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83AFC-EFC0-4748-9E8C-4ACD6737B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39F458-4B4F-4721-94F8-70C14B71A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C1ABD7-CF91-41AD-A822-AFEC748055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DE6A34-94A2-4232-873F-60363D440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EF56E-8B47-4D4C-9411-DA8BE59C5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DD39B-ABDD-4D80-9232-96A310FBBF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6A54C-CB50-4AFD-9657-7979BD2EAE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18797-9CA9-4EAD-9294-162F4AECE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6DF3D-D18B-4101-AE09-42C952A8F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953C10-2707-4543-BC05-407B6E2EE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DBFD9C-F6CB-4F35-BB66-49324CD2F8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5CBCC7-70C9-4FCB-956E-F180954E62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F5C17-FBCD-4246-AB33-BD11F9B87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F8FCF-438B-4892-9B14-2CB892B63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D492A-5293-4884-B84F-4AF98F39E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7DF71-22CC-4A48-A7A8-D079B5D96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1E6F1-B714-4CC1-9B92-BDE4CB634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E2C55-A5C9-451D-9DE2-AC73982545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E5F09-26C7-48D1-A83E-A8E956B0A1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EE408F0-CDFC-4D84-9B48-B8E1D30CD8A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1B991BA-559A-4B36-87C4-2DECD38ABB4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FB9EEB1-94E8-46D5-9DAE-94A9A6709A9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83FFF-A6BA-47DE-9F77-7BB884703B07}"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399EE2E-4815-44D4-B37D-F642C2FFD9E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B2666B3-68A6-46B3-B6CF-D568C2C94D0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CCA676F-BCBF-4FB4-BCA7-2C6B28D411C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